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DD1-C1D6-407B-B363-67FD02F5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A31-CAE4-4FE0-BC8C-0FE41A07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A44-8252-4A83-B270-3A9C609C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0FF-D92E-4EE0-8A3D-B2B806BA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BE05-C59B-4EF9-B926-56A90E37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1517-F74F-46C0-9150-2E49E66F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829B-24F2-45C7-9D45-CE1FCD7B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2631-1EA5-415D-AB3B-E8B03E81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30A1-1F64-460B-90B5-886D1DF4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DEE8-1414-4964-AD0D-1CF047CE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F112-D945-4545-805E-E34C5BE6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D24-A197-4C17-BB6B-039A601D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2855-CE8F-441D-BE3B-049D0ECB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6D5D-6AA0-45A6-9D0D-9D2AE4E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BC3F-4C09-40D4-BD94-D3EA3CEE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771A-FC6E-4339-87AC-73327297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DB81-A628-4D01-8D20-7345A8F0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CE8A-9389-489D-88D7-1102B35E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D0D3-BB2C-48B2-A267-001F8B6E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262B-5F82-4A69-A244-494ACF30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8BC99-090C-4EDC-82A0-9964171E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E067-F2E7-4972-8A64-B821E59B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E1A-06B3-46BF-8166-4770E5A5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03F83-5046-4599-BCB2-F5E1A043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89364-5561-4A1C-98E4-0D85DDEC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EF9B-134F-4465-973B-01B1F13F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25BE-018C-465B-8EFE-FBD7443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051AF-897E-41EC-8F60-22D36D26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2D2EE-C32B-46B0-B5B0-7ECDD2DB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41DF-0587-4723-A2C7-F69D3DC9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D152-D3B3-4F7D-963B-07D85775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0F7CD-0E32-408D-962B-C66F054A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BEDC-B065-42AF-8945-BB50EC4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4F3-7977-47B8-B823-FC48DE53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1C36-39AB-4938-BDF5-282FB7C9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F521-966A-4A2F-9D68-5661CE0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8649-F9EE-46B6-9AB2-5AAE4C98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F552-EC03-4E55-8072-EC032CA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2B1D2-CC5E-4EFE-9766-E4F56C0A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11A8-739B-4D83-8445-E217737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02731-8949-47E9-A649-C8C3CCC9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4E8F-B875-4558-938A-2D7F5FF5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D416-C0D3-4C08-8A47-48997898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8092C-12B9-4A11-B3C2-A037844E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AC3-4146-4437-BBD0-3078504B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56A3D-C974-464F-B053-6EFF8883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4A6A6-71D2-4B02-87CF-78B46C80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49269-3B93-468D-B232-B493765C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FE6CB-DCB4-4F22-8535-18C8D0F9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A5AEF-99F5-4A1D-84A3-9B109030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768E9-8A86-43EC-A01B-8453AFE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3B7F-C825-40DF-8EE6-87FA137D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536EB-03B2-4797-AB5E-F558571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CCEA-B591-4834-893D-C6B792AA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A382D-3FA0-4C1F-90C4-F9610E4A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902-5E2F-45AA-A976-BEC332F9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24013-AA48-4D23-AA64-00258C55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C32CD-1975-4D7F-9ECC-F5D3F209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2D980-12A8-4318-831F-7DDA7296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29FC-7A3D-4DF3-A68A-BEBD8AD8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DECB5-8270-4E3A-A71B-0964A3FF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11678-1F12-4AAF-B75C-102077F3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E83A0-4AF5-40B8-B8F9-A97C10AB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54AA9-3A40-4676-B398-97EFBE44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6CFBA-AB01-47BA-9C0D-E94C7256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21BB-7CB2-47DB-8E14-7B8D6CD7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FBB-4F79-4BDA-9105-64A525B5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E236E-1609-4382-AE9F-04BFFA88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06F0B-7F83-4161-9F15-F59FCDC5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7651D-C454-42B1-BFF4-9AF60741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FF4-7AB1-44A8-95F4-124FAB52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BED-601F-4566-8D4D-8C530E4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155C-4F21-4B49-B870-F18187A23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sp>
        <p:nvSpPr>
          <p:cNvPr id="6" name="Text Box 9"/>
          <p:cNvSpPr/>
          <p:nvPr/>
        </p:nvSpPr>
        <p:spPr>
          <a:xfrm>
            <a:off x="0" y="0"/>
            <a:ext cx="2627280" cy="336600"/>
          </a:xfrm>
          <a:prstGeom prst="rect">
            <a:avLst/>
          </a:prstGeom>
          <a:solidFill>
            <a:srgbClr val="7499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73A-B989-4F7A-9392-3CA9DECF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0" y="0"/>
            <a:ext cx="2627280" cy="336600"/>
          </a:xfrm>
          <a:prstGeom prst="rect">
            <a:avLst/>
          </a:prstGeom>
          <a:solidFill>
            <a:srgbClr val="7499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AF12-5BB7-4CFB-A697-DA56789A6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1500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0" y="0"/>
            <a:ext cx="2627280" cy="336600"/>
          </a:xfrm>
          <a:prstGeom prst="rect">
            <a:avLst/>
          </a:prstGeom>
          <a:solidFill>
            <a:srgbClr val="7499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DFED-5DED-4585-9A70-1E93FA201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BCA0-272E-4DA5-BA5E-E84E7A82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D69A-8A79-4AC7-83DA-60D5D67668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22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巢湖学院创新创业教育研讨会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1403280" y="53578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20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7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22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认证背景下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创新创业教育概论》教学大纲编制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22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首批认证专业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工程认证专业（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）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气工程及其自动化、机械设计制造及其自动化、网络工程、无机非金属材料工程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师范认证专业（</a:t>
            </a:r>
            <a:r>
              <a:rPr b="1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）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前教育、英语、数学与应用数学、美术学、物理学、体育教育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22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应师范认证专业毕业要求：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7" name="图片 1" descr=""/>
          <p:cNvPicPr/>
          <p:nvPr/>
        </p:nvPicPr>
        <p:blipFill>
          <a:blip r:embed="rId2"/>
          <a:stretch/>
        </p:blipFill>
        <p:spPr>
          <a:xfrm>
            <a:off x="5033880" y="2573280"/>
            <a:ext cx="3990960" cy="4062600"/>
          </a:xfrm>
          <a:prstGeom prst="rect">
            <a:avLst/>
          </a:prstGeom>
          <a:ln w="0">
            <a:noFill/>
          </a:ln>
        </p:spPr>
      </p:pic>
      <p:sp>
        <p:nvSpPr>
          <p:cNvPr id="258" name="直接连接符 3"/>
          <p:cNvSpPr/>
          <p:nvPr/>
        </p:nvSpPr>
        <p:spPr>
          <a:xfrm flipV="1">
            <a:off x="5508720" y="5892480"/>
            <a:ext cx="1947600" cy="28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直接连接符 2"/>
          <p:cNvSpPr/>
          <p:nvPr/>
        </p:nvSpPr>
        <p:spPr>
          <a:xfrm flipV="1">
            <a:off x="5508720" y="6400440"/>
            <a:ext cx="1947600" cy="27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22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应工程认证专业毕业要求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1" name="图片 1" descr=""/>
          <p:cNvPicPr/>
          <p:nvPr/>
        </p:nvPicPr>
        <p:blipFill>
          <a:blip r:embed="rId2"/>
          <a:stretch/>
        </p:blipFill>
        <p:spPr>
          <a:xfrm>
            <a:off x="4865760" y="1776240"/>
            <a:ext cx="4086000" cy="4581720"/>
          </a:xfrm>
          <a:prstGeom prst="rect">
            <a:avLst/>
          </a:prstGeom>
          <a:ln w="0">
            <a:noFill/>
          </a:ln>
        </p:spPr>
      </p:pic>
      <p:sp>
        <p:nvSpPr>
          <p:cNvPr id="262" name="直接连接符 3"/>
          <p:cNvSpPr/>
          <p:nvPr/>
        </p:nvSpPr>
        <p:spPr>
          <a:xfrm flipV="1">
            <a:off x="5241960" y="5463720"/>
            <a:ext cx="1947960" cy="27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直接连接符 4"/>
          <p:cNvSpPr/>
          <p:nvPr/>
        </p:nvSpPr>
        <p:spPr>
          <a:xfrm flipV="1">
            <a:off x="5241960" y="6329160"/>
            <a:ext cx="1947960" cy="28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3440" y="1860480"/>
            <a:ext cx="7873920" cy="46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创新创业教育概论》教学大纲（认证专业）较以往版本主要不同：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线上视频内容缩减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线上主题讨论取消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作业形式增加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线下指导内容相对固定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课程考核按目标分类。</a:t>
            </a:r>
            <a:br>
              <a:rPr sz="2000"/>
            </a:b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8T13:11:59Z</dcterms:created>
  <dc:creator>zhu</dc:creator>
  <dc:description/>
  <dc:language>en-US</dc:language>
  <cp:lastModifiedBy>芰荷</cp:lastModifiedBy>
  <dcterms:modified xsi:type="dcterms:W3CDTF">2020-11-27T06:41:46Z</dcterms:modified>
  <cp:revision>84</cp:revision>
  <dc:subject/>
  <dc:title>2005年度青年岗前培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